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17.png" ContentType="image/png"/>
  <Override PartName="/ppt/media/image32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B012E-CE23-49CE-827F-18F5EA55A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AC8C4-59DF-4F1C-B70D-1B1169493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ECD71-1B28-4EC9-8546-A736CBA7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2C44E-1301-4EA6-AF14-1BB2DE33B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C0AF7-FC87-4495-AD81-5C8527D52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B01C4-7528-4DFF-9B4B-558AAC028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95141-B4CD-4F34-ACD7-CEC42239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304-DF41-402F-8A90-51DB8E16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BDC-CFEB-4E68-A039-A4D4DCCD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7DB-7905-462F-BDCA-E6FE9E63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1A2-0616-4F82-BCB6-9EA0267C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62AE-4E0F-4AB5-91DC-7B5D35F1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9CC-67C5-4E18-BA3D-FB8B9C98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6134-D6E3-4AD7-9379-29F8C48A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439D-7162-4F6D-BEA6-6D6417FC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4BD7-8455-4594-8BD3-77EF2DA2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8A96-701F-4C1D-A36C-5E8961B3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0AB1-8944-4380-A44B-17CCF2B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19C-DCA7-4049-B41E-0C9226EC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39FE-A4FF-41DE-A0F0-E7612EDF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05B5-CD9D-47B0-A1E0-946A515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CB87-6C34-4FD8-A5CB-AEF1C12E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D37E-6142-459A-840B-E362B4AE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B169-79DD-41AE-91C5-469B3A53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A34-75C6-479D-8B28-64A43F1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B9A-FE24-48A2-9BFE-E1274E3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DE2-0C88-4587-82DE-CCCFB77A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123-8619-40AF-8534-F331E573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304-6E07-46B9-A42E-23C3B7B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BC1-B72A-40A9-943A-D015DD2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8FF-EFB3-4F2A-8E96-99F6347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D6447-B16A-49C1-8AD3-DE6B672BF04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90D14-E4BB-4818-9E9C-E4F51F67AC2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C8363-41AA-47B7-BF3C-55D71FA44C80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4CE96-3238-4E98-8033-581298CA462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Osmotic_pressure_on_blood_cells_diagram.svg" TargetMode="External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pOxgAU5fFQ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apter 3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logy Part 1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Biology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Cobb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wo Types of Cel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ukaryotic Cell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as a membrane bound nucleus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embrane bound organelles in the cytoplas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rganelles -  a structure that performs special functions in the cel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karyotic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acteria and Blue-green alga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ack a membrane around nucleus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tains only non-membrane bound organell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9000" y="1599840"/>
            <a:ext cx="8366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parates the cell from the environ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gulates what comes in and out of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tains lipids, because lipids do not dissolve in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spholipids in a lipid bilay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mbrane proteins throughout the membrane with different fun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Content Placeholder 3" descr="plasmamembrane3.jpg"/>
          <p:cNvPicPr/>
          <p:nvPr/>
        </p:nvPicPr>
        <p:blipFill>
          <a:blip r:embed="rId2"/>
          <a:srcRect l="-14756" t="0" r="-14756" b="0"/>
          <a:stretch/>
        </p:blipFill>
        <p:spPr>
          <a:xfrm>
            <a:off x="1828800" y="1444680"/>
            <a:ext cx="4803840" cy="2593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plasmamembranefigure1.jpg"/>
          <p:cNvPicPr/>
          <p:nvPr/>
        </p:nvPicPr>
        <p:blipFill>
          <a:blip r:embed="rId3"/>
          <a:stretch/>
        </p:blipFill>
        <p:spPr>
          <a:xfrm>
            <a:off x="1295280" y="4100400"/>
            <a:ext cx="50799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8" name="Content Placeholder 3" descr="Plasma_Membrane_Quiz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-592200" y="1444680"/>
            <a:ext cx="973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ly in plant cells outside the plasma membra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of cellulose and rigi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of th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rim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cond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s pores for transport and commun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2" name="Content Placeholder 3" descr="zonata_3.jpg"/>
          <p:cNvPicPr/>
          <p:nvPr/>
        </p:nvPicPr>
        <p:blipFill>
          <a:blip r:embed="rId2"/>
          <a:srcRect l="-19363" t="0" r="-19363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4" name="Content Placeholder 3" descr="cell_wall-13227.jpg"/>
          <p:cNvPicPr/>
          <p:nvPr/>
        </p:nvPicPr>
        <p:blipFill>
          <a:blip r:embed="rId2"/>
          <a:srcRect l="-25560" t="0" r="-2556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plas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verything inside the cell except the nucle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ytoplasmic streaming is moving the organelles around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owerhouse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an shap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urn chemical energy in sugar into usable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wo membran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istae – inner membrane with many folds for more surface area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their own DNA (directly from maternal lineage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0" name="Content Placeholder 3" descr="images.jpg"/>
          <p:cNvPicPr/>
          <p:nvPr/>
        </p:nvPicPr>
        <p:blipFill>
          <a:blip r:embed="rId2"/>
          <a:srcRect l="-45511" t="0" r="-45511" b="0"/>
          <a:stretch/>
        </p:blipFill>
        <p:spPr>
          <a:xfrm>
            <a:off x="-1752480" y="16002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mages -1.jpg"/>
          <p:cNvPicPr/>
          <p:nvPr/>
        </p:nvPicPr>
        <p:blipFill>
          <a:blip r:embed="rId3"/>
          <a:stretch/>
        </p:blipFill>
        <p:spPr>
          <a:xfrm>
            <a:off x="4950000" y="2481120"/>
            <a:ext cx="3889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lo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study of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rst observed and noted by Robert Hooke in 1665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rk cell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amed cells because it looked like rooms in a monaster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4" name="Picture 3" descr="robert hooke.jpg"/>
          <p:cNvPicPr/>
          <p:nvPr/>
        </p:nvPicPr>
        <p:blipFill>
          <a:blip r:embed="rId2"/>
          <a:stretch/>
        </p:blipFill>
        <p:spPr>
          <a:xfrm>
            <a:off x="2971800" y="2730600"/>
            <a:ext cx="1841400" cy="225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ookecork.jpg"/>
          <p:cNvPicPr/>
          <p:nvPr/>
        </p:nvPicPr>
        <p:blipFill>
          <a:blip r:embed="rId3"/>
          <a:stretch/>
        </p:blipFill>
        <p:spPr>
          <a:xfrm>
            <a:off x="5372280" y="2730600"/>
            <a:ext cx="21175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3" name="Content Placeholder 3" descr="mitmor4.jpg"/>
          <p:cNvPicPr/>
          <p:nvPr/>
        </p:nvPicPr>
        <p:blipFill>
          <a:blip r:embed="rId2"/>
          <a:srcRect l="-12666" t="0" r="-12666" b="0"/>
          <a:stretch/>
        </p:blipFill>
        <p:spPr>
          <a:xfrm>
            <a:off x="-380880" y="1600200"/>
            <a:ext cx="5502240" cy="34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Mitochondria simple structure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ibosom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-membrane bound organelle found in prokaryotes and Eukaryo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d to make protei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ee floating or on the 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of 2 parts (we will discuss this later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plasmic Reticulum (ER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round the nucle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ugh ER has ribosomes on it, smooth ER does no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ugh ER produces protei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ooth ER produces lipids and hormon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plasmic Reticulu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0" name="Content Placeholder 3" descr="2820694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ough 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2" name="Content Placeholder 3" descr="rough_er-em.gif"/>
          <p:cNvPicPr/>
          <p:nvPr/>
        </p:nvPicPr>
        <p:blipFill>
          <a:blip r:embed="rId2"/>
          <a:srcRect l="-29852" t="0" r="-29852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nal processing and packaging of produced compound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PS of the cell, packaging compounds into sac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 Bod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6" name="Content Placeholder 3" descr="golgi6.jpg"/>
          <p:cNvPicPr/>
          <p:nvPr/>
        </p:nvPicPr>
        <p:blipFill>
          <a:blip r:embed="rId2"/>
          <a:srcRect l="-9844" t="0" r="-9844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 Bod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8" name="Content Placeholder 3" descr="golgi_2.jpg"/>
          <p:cNvPicPr/>
          <p:nvPr/>
        </p:nvPicPr>
        <p:blipFill>
          <a:blip r:embed="rId2"/>
          <a:srcRect l="-23510" t="0" r="-2351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ysosom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does “lys” mean?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ys means to break dow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reak down invaders, food, old cell componen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ny fibers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ap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ng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ve structures around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iginal Microscop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Content Placeholder 3" descr="hookemicro.gif"/>
          <p:cNvPicPr/>
          <p:nvPr/>
        </p:nvPicPr>
        <p:blipFill>
          <a:blip r:embed="rId2"/>
          <a:srcRect l="-46735" t="0" r="-4673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55" name="Picture 3" descr="http://www.ccs.k12.in.us/chsBS/kons/kons/eukaryotic%20cell/cytoplasm_and_its_associated_str_files/image029.jpg"/>
          <p:cNvPicPr/>
          <p:nvPr/>
        </p:nvPicPr>
        <p:blipFill>
          <a:blip r:embed="rId2"/>
          <a:stretch/>
        </p:blipFill>
        <p:spPr>
          <a:xfrm>
            <a:off x="549360" y="1600200"/>
            <a:ext cx="7696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7" name="Content Placeholder 3" descr="cytoskeletonn.jpg"/>
          <p:cNvPicPr/>
          <p:nvPr/>
        </p:nvPicPr>
        <p:blipFill>
          <a:blip r:embed="rId2"/>
          <a:srcRect l="-47577" t="0" r="-47577" b="0"/>
          <a:stretch/>
        </p:blipFill>
        <p:spPr>
          <a:xfrm>
            <a:off x="-1752480" y="16002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ytoskeleton.jpg"/>
          <p:cNvPicPr/>
          <p:nvPr/>
        </p:nvPicPr>
        <p:blipFill>
          <a:blip r:embed="rId3"/>
          <a:stretch/>
        </p:blipFill>
        <p:spPr>
          <a:xfrm>
            <a:off x="4699080" y="2335320"/>
            <a:ext cx="4444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lagella and Cil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agellum is a long tai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ilia are short hairs that cover the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63" name="Picture 3" descr="membrane_flow"/>
          <p:cNvPicPr/>
          <p:nvPr/>
        </p:nvPicPr>
        <p:blipFill>
          <a:blip r:embed="rId2"/>
          <a:stretch/>
        </p:blipFill>
        <p:spPr>
          <a:xfrm>
            <a:off x="2286000" y="380880"/>
            <a:ext cx="5257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ti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nd in cells of plants, algae and few oth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orage contain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eukoplasts – contain starch or oil for the pla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hromoplasts – contain pigmen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st known is chloroplas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starch2"/>
          <p:cNvPicPr/>
          <p:nvPr/>
        </p:nvPicPr>
        <p:blipFill>
          <a:blip r:embed="rId3"/>
          <a:stretch/>
        </p:blipFill>
        <p:spPr>
          <a:xfrm>
            <a:off x="0" y="457200"/>
            <a:ext cx="879624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verts light energy into chemical energ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tball shaped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their own DNA (like the mitochondri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 struct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ylakoids – sa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anum – stacks of thylakoi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oma – flui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lorophyll – green pigm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 – making sug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4" name="Content Placeholder 3" descr="cplastruct.gif"/>
          <p:cNvPicPr/>
          <p:nvPr/>
        </p:nvPicPr>
        <p:blipFill>
          <a:blip r:embed="rId2"/>
          <a:srcRect l="-15525" t="0" r="-1552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6" name="Content Placeholder 3" descr="chloroplast1.gif"/>
          <p:cNvPicPr/>
          <p:nvPr/>
        </p:nvPicPr>
        <p:blipFill>
          <a:blip r:embed="rId2"/>
          <a:srcRect l="-15808" t="0" r="-15808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ther people noticing cel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euwenhoek saw living organisms in 1674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ert Brown found the nucleus in 1833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toplasm – the “stuff”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8" name="Content Placeholder 3" descr="biol_01_img0077.jpg"/>
          <p:cNvPicPr/>
          <p:nvPr/>
        </p:nvPicPr>
        <p:blipFill>
          <a:blip r:embed="rId2"/>
          <a:srcRect l="-6132" t="0" r="-6132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ucleu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trol cente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NA replication and RNA transcrip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ar Envelope is a double membrane that surrounds the nucle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ar pores or opening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romatin material – DNA and other protei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olus – center part of nucleu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ucleu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82" name="Content Placeholder 3" descr="cell127.gif"/>
          <p:cNvPicPr/>
          <p:nvPr/>
        </p:nvPicPr>
        <p:blipFill>
          <a:blip r:embed="rId2"/>
          <a:srcRect l="0" t="-271" r="0" b="-2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acuo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mbrane-bound sa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: stora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st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inocyt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ntral vacuole in pla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crofilaments – support network inside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rmediate filaments – streng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crotubules – internal framework for transport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77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77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77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77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77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77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vironment Respons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meostasis – steady st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s of responses (no need to writ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ur body temp. is 98.6 degrees Fahrenhei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hive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wea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izur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olutions around the ce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nicity: dissolved substanc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sotonic: same # of dissolved substanc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pertonic: more dissolved substanc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potonic: fewer dissolved substanc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REMEMBER WE ARE TALKING ABOUT THE SOLUTION AROUND THE CELL!!!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olutions around the ce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pertonic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H</a:t>
            </a:r>
            <a:r>
              <a:rPr b="0" lang="en-US" sz="22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 will move out of the cel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lasmolysis – plasma membrane breaks off from cell wal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poton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H</a:t>
            </a:r>
            <a:r>
              <a:rPr b="0" lang="en-US" sz="22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 moves into cel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ytolysis – cell expands and burs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c8x12cell"/>
          <p:cNvPicPr/>
          <p:nvPr/>
        </p:nvPicPr>
        <p:blipFill>
          <a:blip r:embed="rId2"/>
          <a:stretch/>
        </p:blipFill>
        <p:spPr>
          <a:xfrm>
            <a:off x="380880" y="457200"/>
            <a:ext cx="8763120" cy="61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Effect of different solutions on blood cel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257560"/>
            <a:ext cx="8153640" cy="4267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hosts"/>
          <p:cNvPicPr/>
          <p:nvPr/>
        </p:nvPicPr>
        <p:blipFill>
          <a:blip r:embed="rId4"/>
          <a:stretch/>
        </p:blipFill>
        <p:spPr>
          <a:xfrm>
            <a:off x="6172200" y="152280"/>
            <a:ext cx="2371680" cy="17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Theo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cell is the basic unit of lif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s perform all the functions of living thing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s come from pre-existing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yper    and      Hyp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1" name="Content Placeholder 3" descr="red blood cell hypertonic soln.jpg"/>
          <p:cNvPicPr/>
          <p:nvPr/>
        </p:nvPicPr>
        <p:blipFill>
          <a:blip r:embed="rId2"/>
          <a:srcRect l="-65467" t="0" r="-65467" b="0"/>
          <a:stretch/>
        </p:blipFill>
        <p:spPr>
          <a:xfrm>
            <a:off x="-1981080" y="18288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red blood cell hypotonic soln.jpg"/>
          <p:cNvPicPr/>
          <p:nvPr/>
        </p:nvPicPr>
        <p:blipFill>
          <a:blip r:embed="rId3"/>
          <a:stretch/>
        </p:blipFill>
        <p:spPr>
          <a:xfrm>
            <a:off x="5410080" y="1816200"/>
            <a:ext cx="34927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elcell7a"/>
          <p:cNvPicPr/>
          <p:nvPr/>
        </p:nvPicPr>
        <p:blipFill>
          <a:blip r:embed="rId2"/>
          <a:stretch/>
        </p:blipFill>
        <p:spPr>
          <a:xfrm>
            <a:off x="304920" y="2209680"/>
            <a:ext cx="822960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urgor press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22" name="Content Placeholder 3" descr="image006.jpg"/>
          <p:cNvPicPr/>
          <p:nvPr/>
        </p:nvPicPr>
        <p:blipFill>
          <a:blip r:embed="rId2"/>
          <a:srcRect l="-19534" t="0" r="-19534" b="0"/>
          <a:stretch/>
        </p:blipFill>
        <p:spPr>
          <a:xfrm>
            <a:off x="1523880" y="3429000"/>
            <a:ext cx="6021360" cy="3252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plm6s1_1.jpg"/>
          <p:cNvPicPr/>
          <p:nvPr/>
        </p:nvPicPr>
        <p:blipFill>
          <a:blip r:embed="rId3"/>
          <a:stretch/>
        </p:blipFill>
        <p:spPr>
          <a:xfrm>
            <a:off x="2438280" y="1444680"/>
            <a:ext cx="41468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elocel2"/>
          <p:cNvPicPr/>
          <p:nvPr/>
        </p:nvPicPr>
        <p:blipFill>
          <a:blip r:embed="rId2"/>
          <a:stretch/>
        </p:blipFill>
        <p:spPr>
          <a:xfrm>
            <a:off x="266760" y="2060640"/>
            <a:ext cx="8877240" cy="48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elod3"/>
          <p:cNvPicPr/>
          <p:nvPr/>
        </p:nvPicPr>
        <p:blipFill>
          <a:blip r:embed="rId2"/>
          <a:stretch/>
        </p:blipFill>
        <p:spPr>
          <a:xfrm>
            <a:off x="1828800" y="533520"/>
            <a:ext cx="5943600" cy="56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ransportation across the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ssive Transpor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ssive Mediated Transpor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ctive Transpor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ssive Trans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quires no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actors affecting Transport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centr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ize and Weight of molecul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hap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harg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at-solubilit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embrane composi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ssive Mediated Trans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tein chann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pecific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ated protein channel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rrier Prote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pecific recepto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ate that changes shap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g. 92 figure 3B.4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ctive Trans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gainst concentration gradi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posite of 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quires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rmed “pumps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cyto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ulk substances across membra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 membrane folds in and forms a vacuo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agocytosis – eating another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inocytosis – “cell drinking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Phagocyto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vels of Cellular Organiz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nicellular – one – cell organis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lonial organism – a collection of similar cells living together.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lti-cellul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ssu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ga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gan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ocyto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posite of Endocyto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I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cytosis and Exocyto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53" name="Content Placeholder 3" descr="nrm2060-f2.jpg"/>
          <p:cNvPicPr/>
          <p:nvPr/>
        </p:nvPicPr>
        <p:blipFill>
          <a:blip r:embed="rId2"/>
          <a:srcRect l="-20997" t="0" r="-20997" b="0"/>
          <a:stretch/>
        </p:blipFill>
        <p:spPr>
          <a:xfrm>
            <a:off x="0" y="1676520"/>
            <a:ext cx="8888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Jo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bsorb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ges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cre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ges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ynthe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spi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Cell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Content Placeholder 3" descr="structure_animal_ce_c_la_784.jpg"/>
          <p:cNvPicPr/>
          <p:nvPr/>
        </p:nvPicPr>
        <p:blipFill>
          <a:blip r:embed="rId2"/>
          <a:srcRect l="-18797" t="0" r="-18797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nt Cell Anatom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Content Placeholder 3" descr="anatomy - 1.gif"/>
          <p:cNvPicPr/>
          <p:nvPr/>
        </p:nvPicPr>
        <p:blipFill>
          <a:blip r:embed="rId2"/>
          <a:srcRect l="-26457" t="0" r="-26457" b="0"/>
          <a:stretch/>
        </p:blipFill>
        <p:spPr>
          <a:xfrm>
            <a:off x="-415800" y="1417680"/>
            <a:ext cx="9559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20:27:58Z</dcterms:created>
  <dc:creator>Jason Cobb</dc:creator>
  <dc:description/>
  <dc:language>en-US</dc:language>
  <cp:lastModifiedBy>Jason Cobb</cp:lastModifiedBy>
  <dcterms:modified xsi:type="dcterms:W3CDTF">2011-10-24T00:44:33Z</dcterms:modified>
  <cp:revision>34</cp:revision>
  <dc:subject/>
  <dc:title>Chapter 3</dc:title>
</cp:coreProperties>
</file>